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9.wmf" ContentType="image/x-wmf"/>
  <Override PartName="/ppt/media/image6.png" ContentType="image/png"/>
  <Override PartName="/ppt/media/image5.jpeg" ContentType="image/jpeg"/>
  <Override PartName="/ppt/media/image26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7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08F-A3AC-43FD-80DE-DCD0ADEE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B6B-D4EF-49FE-ABB8-8F4E2FD5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A7BC-A9A5-486D-A984-F2C55D59C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D17-09A4-4F0C-A226-33C3AC71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A2D6-BF2E-4795-8E52-942D1722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4694-F13B-42C7-BB4A-3E6F0FDB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D7B5-C9CD-4079-ADEE-C20C2B57A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2048-14B3-4971-B6B5-6E362F40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90F1-93B7-4F45-B62D-B2815D07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44E9-6AAF-4D7A-A93D-D5DDDE2F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F07B-2ABE-418F-BC61-450FD061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1546-5255-4A19-A5C7-DB2518F6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8945-9DEE-4C94-8515-C4C71152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8984-FE0C-43A5-9650-6D264F93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CE8A-9CA5-4020-B214-9FEB4941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A078-18B4-4481-B4F5-0F60E9CC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AFC0-CFB3-4316-BD15-3E044F32B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3E12FF-05BA-481F-8A53-41F3A78A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EA4B16-B177-4CCE-A9A2-5A82FB9F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210A94-2446-41E1-8B62-C5A22654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71EF61-66EF-4086-A89A-5CC508038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50FA1F-1482-40A3-8649-C07FFB17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035-0045-433B-8DD5-173D54CC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D58ED4-AFDB-435C-A663-BE005D0D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710359-26D8-49CC-B069-56AD3462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C89B27-B339-44FB-B88D-0A1157FA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26ADBA-27E8-42AF-BA41-A1C853C2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A1F499-1421-4881-A4B6-432505A3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549D84-9E98-4EA3-A8E6-D71F5E74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FBF3F2-4A8A-414D-9F1C-BA59B0268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DC8D7-F163-427A-BD1D-E7371DFF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0DB1B-C6A5-41CF-AAA7-0989AA16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D4DD6-A9E2-4500-8157-86F9160D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5A5-F456-49DD-A08C-7714C55C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2D233-6BE4-41D0-9416-6E3B46B6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F5143-FD9C-4ECB-B969-9972BE38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08B98-F171-4D1C-B2D8-A4C62948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04DA9-316C-4ACC-8D55-ADABE3C4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A7EB3-9CEF-4840-88E2-E667BAD4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55609-2235-4F08-AF04-1B1B6632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F54CA-F1D9-40C4-AE03-C6065525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D111D-D19A-4AE7-A145-EE33AA0F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E21CE-093B-4BBA-9C61-F1F8F3F5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820B7F-EB3D-4BA1-BE4F-025E25873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77E-D7A6-492C-BA74-9179F324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B222F1-E8BB-4210-83E1-214FD574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C8ACB3-A580-490A-B825-68132192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1CF2D3-34AC-4FCB-BF4C-D0E7D83E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3E3955-3AF9-4636-8BFA-1350A801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C76FDA-EA96-4499-A3BB-6DB087B5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A81AA9-2BE4-42D6-A83B-A1A09470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B005D7-2A93-4ACE-8B58-C2A256D0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917E10-6D91-426A-82B1-4A343E8B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911D3E-283F-4D58-B12C-F289BEB3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BA3A00-344A-4B57-ADFA-59156245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9B3-60A3-4A55-BCE0-B28B6C8F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EAEA46-4CAA-48C3-8D7D-1A9CC830E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A16F07-430C-4B08-8D38-DE0B5569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94184C-2428-49EB-BC1D-8D38A1EB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AACFBE-5801-4D29-875C-112FEF21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AE5BEC-E73D-4CE0-B617-9D54A140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8300D6-4007-44EC-8AE2-A823AA45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7F5080-7005-4EF2-B287-7DED928A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492FAA-00E2-46A2-A6BA-2EB97E28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890031-208D-428A-AE6B-EB9D797A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BC09F8-ECA5-49D4-A50E-B9AFB655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A55-1358-45A4-BE96-6044DCC7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6AB689-A2FA-43DC-8865-77F14EDF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447660-E628-4D15-A506-62CCF988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75CA96-ABFE-4F10-B890-C2AA197E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5F91D-DF2E-43F2-B060-06CD2CBF9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09888-6781-4244-9E73-5B61E762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9BB52-C68C-4AA3-A89C-FB9C9718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8C0AF-8370-4C64-A45C-AA659E9D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6BDFD-CE92-4E5D-B9BD-50F72A8B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D6F7A-D460-4A73-A8EC-B43D625F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9716B-A685-4420-B977-885BC635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DAA-59BB-43BC-8000-2A03B697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4F55B-1973-4A0C-B4F9-5E91A682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F8796-84D1-4408-84F0-E17DDFA9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151EA-B93C-4D2A-88A2-40C376C0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26FEE-7FBF-4FBA-A466-817C99BD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4E983-078D-4207-8252-C415220E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DCE66-9459-49F0-933D-5C4CF203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1A029-43A9-427B-B00E-C58DE4B9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2458D-9A81-4128-AEB0-63B9F77E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3EB23-3A29-45F7-AC09-5021782B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91B0D-EBA6-4F97-BCE4-AF7C9F83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5C7-53AF-484B-81EF-93F5BD0C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706320" y="176040"/>
            <a:ext cx="8229600" cy="30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AD3A2-4CA3-4A0C-ACA3-61717837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93972-F487-4058-BF6A-321CFC5D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D8240-F52A-4D78-88F8-D06C1761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54716-5D97-4AE0-8B3C-7FBEEA46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79280" y="3728880"/>
            <a:ext cx="87854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4E7FF-9C54-402B-B0BD-B042CEF7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1440" y="90792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7928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81440" y="3728880"/>
            <a:ext cx="42872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DCABD-489A-4A79-8474-02FDF86D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14964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0000" y="90792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7928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14964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120000" y="3728880"/>
            <a:ext cx="28285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8426A-4053-47BB-9F74-26612659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73.xml"/><Relationship Id="rId13" Type="http://schemas.openxmlformats.org/officeDocument/2006/relationships/slideLayout" Target="../slideLayouts/slideLayout74.xml"/><Relationship Id="rId14" Type="http://schemas.openxmlformats.org/officeDocument/2006/relationships/slideLayout" Target="../slideLayouts/slideLayout75.xml"/><Relationship Id="rId15" Type="http://schemas.openxmlformats.org/officeDocument/2006/relationships/slideLayout" Target="../slideLayouts/slideLayout76.xml"/><Relationship Id="rId16" Type="http://schemas.openxmlformats.org/officeDocument/2006/relationships/slideLayout" Target="../slideLayouts/slideLayout77.xml"/><Relationship Id="rId17" Type="http://schemas.openxmlformats.org/officeDocument/2006/relationships/slideLayout" Target="../slideLayouts/slideLayout78.xml"/><Relationship Id="rId18" Type="http://schemas.openxmlformats.org/officeDocument/2006/relationships/slideLayout" Target="../slideLayouts/slideLayout79.xml"/><Relationship Id="rId19" Type="http://schemas.openxmlformats.org/officeDocument/2006/relationships/slideLayout" Target="../slideLayouts/slideLayout80.xml"/><Relationship Id="rId20" Type="http://schemas.openxmlformats.org/officeDocument/2006/relationships/slideLayout" Target="../slideLayouts/slideLayout81.xml"/><Relationship Id="rId21" Type="http://schemas.openxmlformats.org/officeDocument/2006/relationships/slideLayout" Target="../slideLayouts/slideLayout82.xml"/><Relationship Id="rId22" Type="http://schemas.openxmlformats.org/officeDocument/2006/relationships/slideLayout" Target="../slideLayouts/slideLayout83.xml"/><Relationship Id="rId2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525252">
                  <a:alpha val="0"/>
                </a:srgbClr>
              </a:gs>
              <a:gs pos="100000">
                <a:srgbClr val="b2b2b2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163080" y="-7920"/>
            <a:ext cx="1440" cy="687060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213600" y="-7920"/>
            <a:ext cx="2730240" cy="6870600"/>
          </a:xfrm>
          <a:custGeom>
            <a:avLst/>
            <a:gdLst/>
            <a:ahLst/>
            <a:rect l="l" t="t" r="r" b="b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ed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564240" y="-7920"/>
            <a:ext cx="2598840" cy="6870600"/>
          </a:xfrm>
          <a:custGeom>
            <a:avLst/>
            <a:gdLst/>
            <a:ahLst/>
            <a:rect l="l" t="t" r="r" b="b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/>
            <a:ahLst/>
            <a:rect l="l" t="t" r="r" b="b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/>
            <a:ahLst/>
            <a:rect l="l" t="t" r="r" b="b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/>
            <a:ahLst/>
            <a:rect l="l" t="t" r="r" b="b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/>
            <a:ahLst/>
            <a:rect l="l" t="t" r="r" b="b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/>
            <a:ahLst/>
            <a:rect l="l" t="t" r="r" b="b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/>
            <a:ahLst/>
            <a:rect l="l" t="t" r="r" b="b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/>
            <a:ahLst/>
            <a:rect l="l" t="t" r="r" b="b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1100160" y="5754600"/>
            <a:ext cx="504720" cy="48600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solidFill>
            <a:srgbClr val="aeaeae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127080" y="5180040"/>
            <a:ext cx="796680" cy="763560"/>
          </a:xfrm>
          <a:custGeom>
            <a:avLst/>
            <a:gdLst/>
            <a:ahLst/>
            <a:rect l="l" t="t" r="r" b="b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solidFill>
            <a:srgbClr val="babab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-20520" y="5340240"/>
            <a:ext cx="2334960" cy="1544760"/>
          </a:xfrm>
          <a:custGeom>
            <a:avLst/>
            <a:gdLst/>
            <a:ahLst/>
            <a:rect l="l" t="t" r="r" b="b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96969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564240" y="-7920"/>
            <a:ext cx="2598840" cy="6875280"/>
          </a:xfrm>
          <a:prstGeom prst="rect">
            <a:avLst/>
          </a:prstGeom>
          <a:ln w="0">
            <a:noFill/>
          </a:ln>
        </p:spPr>
      </p:pic>
      <p:pic>
        <p:nvPicPr>
          <p:cNvPr id="22" name="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5857920" y="-19080"/>
            <a:ext cx="2895480" cy="688644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82440" y="188640"/>
            <a:ext cx="70722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ftr" idx="1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/>
            <a:ahLst/>
            <a:rect l="l" t="t" r="r" b="b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781280" y="6391440"/>
            <a:ext cx="357120" cy="339480"/>
          </a:xfrm>
          <a:custGeom>
            <a:avLst/>
            <a:gdLst/>
            <a:ahLst/>
            <a:rect l="l" t="t" r="r" b="b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solidFill>
            <a:srgbClr val="a7a7a7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5861160" y="-7920"/>
            <a:ext cx="3044880" cy="6870600"/>
          </a:xfrm>
          <a:custGeom>
            <a:avLst/>
            <a:gdLst/>
            <a:ahLst/>
            <a:rect l="l" t="t" r="r" b="b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body"/>
          </p:nvPr>
        </p:nvSpPr>
        <p:spPr>
          <a:xfrm>
            <a:off x="187200" y="1006200"/>
            <a:ext cx="8337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dt" idx="2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01c1e"/>
              </a:gs>
              <a:gs pos="100000">
                <a:srgbClr val="7d0f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100000">
                <a:srgbClr val="ffffff">
                  <a:alpha val="13333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>
            <a:lum bright="-42000"/>
          </a:blip>
          <a:srcRect l="28292" t="0" r="30589" b="0"/>
          <a:stretch/>
        </p:blipFill>
        <p:spPr>
          <a:xfrm>
            <a:off x="5376960" y="-19080"/>
            <a:ext cx="3779640" cy="6896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63080" y="-7920"/>
            <a:ext cx="1440" cy="687060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13600" y="-7920"/>
            <a:ext cx="2730240" cy="6870600"/>
          </a:xfrm>
          <a:custGeom>
            <a:avLst/>
            <a:gdLst/>
            <a:ahLst/>
            <a:rect l="l" t="t" r="r" b="b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ed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64240" y="-7920"/>
            <a:ext cx="2598840" cy="6870600"/>
          </a:xfrm>
          <a:custGeom>
            <a:avLst/>
            <a:gdLst/>
            <a:ahLst/>
            <a:rect l="l" t="t" r="r" b="b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/>
            <a:ahLst/>
            <a:rect l="l" t="t" r="r" b="b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/>
            <a:ahLst/>
            <a:rect l="l" t="t" r="r" b="b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/>
            <a:ahLst/>
            <a:rect l="l" t="t" r="r" b="b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/>
            <a:ahLst/>
            <a:rect l="l" t="t" r="r" b="b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/>
            <a:ahLst/>
            <a:rect l="l" t="t" r="r" b="b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/>
            <a:ahLst/>
            <a:rect l="l" t="t" r="r" b="b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/>
            <a:ahLst/>
            <a:rect l="l" t="t" r="r" b="b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00160" y="5754600"/>
            <a:ext cx="504720" cy="48600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7080" y="5180040"/>
            <a:ext cx="796680" cy="763560"/>
          </a:xfrm>
          <a:custGeom>
            <a:avLst/>
            <a:gdLst/>
            <a:ahLst/>
            <a:rect l="l" t="t" r="r" b="b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20520" y="5340240"/>
            <a:ext cx="2334960" cy="1544760"/>
          </a:xfrm>
          <a:custGeom>
            <a:avLst/>
            <a:gdLst/>
            <a:ahLst/>
            <a:rect l="l" t="t" r="r" b="b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6564240" y="-7920"/>
            <a:ext cx="2598840" cy="687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5857920" y="-19080"/>
            <a:ext cx="2895480" cy="68864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71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4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/>
            <a:ahLst/>
            <a:rect l="l" t="t" r="r" b="b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81280" y="6391440"/>
            <a:ext cx="357120" cy="339480"/>
          </a:xfrm>
          <a:custGeom>
            <a:avLst/>
            <a:gdLst/>
            <a:ahLst/>
            <a:rect l="l" t="t" r="r" b="b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1160" y="-7920"/>
            <a:ext cx="3044880" cy="6870600"/>
          </a:xfrm>
          <a:custGeom>
            <a:avLst/>
            <a:gdLst/>
            <a:ahLst/>
            <a:rect l="l" t="t" r="r" b="b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5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245880" y="712440"/>
            <a:ext cx="86914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Num" idx="7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DD87-2CFF-40F4-9D70-887C18681D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title"/>
          </p:nvPr>
        </p:nvSpPr>
        <p:spPr>
          <a:xfrm>
            <a:off x="23400" y="25992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3360" y="1320480"/>
            <a:ext cx="6137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bdf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bdf5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0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1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2"/>
          </p:nvPr>
        </p:nvSpPr>
        <p:spPr>
          <a:xfrm>
            <a:off x="7885080" y="6244920"/>
            <a:ext cx="110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1F62-1C36-4FF7-BCD9-FC13667782E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245880" y="1341000"/>
            <a:ext cx="869148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ldNum" idx="13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DE48-9E38-4F09-BAC9-E3197913AA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4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5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title"/>
          </p:nvPr>
        </p:nvSpPr>
        <p:spPr>
          <a:xfrm>
            <a:off x="23400" y="25992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212400" y="712440"/>
            <a:ext cx="86914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ldNum" idx="16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62C2-B937-4918-8B49-5814EE0DFE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title"/>
          </p:nvPr>
        </p:nvSpPr>
        <p:spPr>
          <a:xfrm>
            <a:off x="23400" y="37800"/>
            <a:ext cx="75992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179280" y="90792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9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ftr" idx="20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1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B435-9CFA-43DF-9629-43ECE33EC64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1"/>
          <a:stretch/>
        </p:blipFill>
        <p:spPr>
          <a:xfrm>
            <a:off x="66600" y="189000"/>
            <a:ext cx="9010800" cy="62856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5"/>
          <p:cNvSpPr>
            <a:spLocks noGrp="1"/>
          </p:cNvSpPr>
          <p:nvPr>
            <p:ph type="title"/>
          </p:nvPr>
        </p:nvSpPr>
        <p:spPr>
          <a:xfrm>
            <a:off x="706320" y="1760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2"/>
    <p:sldLayoutId id="2147483728" r:id="rId13"/>
    <p:sldLayoutId id="2147483729" r:id="rId14"/>
    <p:sldLayoutId id="2147483730" r:id="rId15"/>
    <p:sldLayoutId id="2147483731" r:id="rId16"/>
    <p:sldLayoutId id="2147483732" r:id="rId17"/>
    <p:sldLayoutId id="2147483733" r:id="rId18"/>
    <p:sldLayoutId id="2147483734" r:id="rId19"/>
    <p:sldLayoutId id="2147483735" r:id="rId20"/>
    <p:sldLayoutId id="2147483736" r:id="rId21"/>
    <p:sldLayoutId id="2147483737" r:id="rId22"/>
    <p:sldLayoutId id="2147483738" r:id="rId2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2"/>
          </p:nvPr>
        </p:nvSpPr>
        <p:spPr>
          <a:xfrm>
            <a:off x="179280" y="6453000"/>
            <a:ext cx="1152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ftr" idx="23"/>
          </p:nvPr>
        </p:nvSpPr>
        <p:spPr>
          <a:xfrm>
            <a:off x="1476000" y="6453000"/>
            <a:ext cx="70563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24"/>
          </p:nvPr>
        </p:nvSpPr>
        <p:spPr>
          <a:xfrm>
            <a:off x="8666280" y="6453000"/>
            <a:ext cx="4428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D874-F3BC-4D66-B1A6-D55439F435D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ff9933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1258920" y="1268280"/>
            <a:ext cx="7443720" cy="5281920"/>
            <a:chOff x="1258920" y="1268280"/>
            <a:chExt cx="7443720" cy="5281920"/>
          </a:xfrm>
        </p:grpSpPr>
        <p:sp>
          <p:nvSpPr>
            <p:cNvPr id="393" name=""/>
            <p:cNvSpPr txBox="1"/>
            <p:nvPr/>
          </p:nvSpPr>
          <p:spPr>
            <a:xfrm>
              <a:off x="1258920" y="1268280"/>
              <a:ext cx="6624720" cy="165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生的食物和熟的食物</a:t>
              </a:r>
              <a:endPara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394" name=""/>
            <p:cNvSpPr txBox="1"/>
            <p:nvPr/>
          </p:nvSpPr>
          <p:spPr>
            <a:xfrm>
              <a:off x="6010200" y="6165720"/>
              <a:ext cx="2692440" cy="38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幼圆"/>
                </a:rPr>
                <a:t>整理者：浙江省建德市新安江第一小学 秦爱军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幼圆"/>
                <a:ea typeface="幼圆"/>
              </a:endParaRPr>
            </a:p>
          </p:txBody>
        </p:sp>
      </p:grp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11280" y="2205000"/>
            <a:ext cx="7416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仔细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看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及时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适时取出玉米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、要用灯帽</a:t>
            </a:r>
            <a:r>
              <a:rPr b="1" lang="zh-CN" sz="3600" spc="-1" strike="noStrike" u="sng">
                <a:solidFill>
                  <a:srgbClr val="ff33cc"/>
                </a:solidFill>
                <a:uFillTx/>
                <a:latin typeface="Arial"/>
              </a:rPr>
              <a:t>盖灭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酒精灯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1" lang="zh-CN" sz="3600" spc="-1" strike="noStrike" u="sng">
                <a:solidFill>
                  <a:srgbClr val="000066"/>
                </a:solidFill>
                <a:uFillTx/>
                <a:latin typeface="Arial"/>
              </a:rPr>
              <a:t>不要碰到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铁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900000" y="90792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实验提示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539640" y="189000"/>
            <a:ext cx="2737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考考你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2" name=""/>
          <p:cNvSpPr/>
          <p:nvPr/>
        </p:nvSpPr>
        <p:spPr>
          <a:xfrm>
            <a:off x="4643280" y="836640"/>
            <a:ext cx="249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判断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349360"/>
            <a:ext cx="871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为了保证人体对营养的吸收，有的食物适宜生吃，有的食物适宜熟吃。（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高温加热会破坏食物中的营养成分，所以食物应该以生吃为主。（         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蛋白质和脂肪加热后，变得容易被人体消化和吸收。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生吃食物和熟吃食物各有优势和不足。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6320" y="175680"/>
            <a:ext cx="184968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4000" y="1052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食物中的（            ）和（        ）在加热后会发生变化，变得容易被人体（        ）和（         ），而且熟的食物比较松软，也容易被消化。但是食物在这样的加工过程中，营养会有一些损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生的食物会保留自身的营养成分，特别是（        ）不会被破坏。所以采用生食的方法能够减少营养的损失，但是生吃食物一定要注意（    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11280" y="0"/>
            <a:ext cx="6624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通过今天的学习与实验，你有什么收获？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6288120" y="3716280"/>
            <a:ext cx="2855880" cy="31417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0" y="3384720"/>
            <a:ext cx="4643280" cy="34732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343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" descr=""/>
          <p:cNvPicPr/>
          <p:nvPr/>
        </p:nvPicPr>
        <p:blipFill>
          <a:blip r:embed="rId2"/>
          <a:srcRect l="30273" t="46794" r="32738" b="17901"/>
          <a:stretch/>
        </p:blipFill>
        <p:spPr>
          <a:xfrm>
            <a:off x="0" y="3716280"/>
            <a:ext cx="4284720" cy="31417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348000" cy="33480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5076720" y="3670200"/>
            <a:ext cx="4067280" cy="31878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248000" cy="3332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rcRect l="13000" t="15335" r="13000" b="15335"/>
          <a:stretch/>
        </p:blipFill>
        <p:spPr>
          <a:xfrm>
            <a:off x="0" y="0"/>
            <a:ext cx="4476600" cy="34574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rcRect l="1760" t="3748" r="4438" b="8756"/>
          <a:stretch/>
        </p:blipFill>
        <p:spPr>
          <a:xfrm>
            <a:off x="0" y="3443400"/>
            <a:ext cx="4495680" cy="34146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4495680" y="3465360"/>
            <a:ext cx="4648320" cy="33926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rcRect l="17215" t="21181" r="20227" b="16929"/>
          <a:stretch/>
        </p:blipFill>
        <p:spPr>
          <a:xfrm>
            <a:off x="4467240" y="0"/>
            <a:ext cx="4676760" cy="34686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209680" y="2286000"/>
            <a:ext cx="62485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哪些是生吃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ff"/>
                </a:solidFill>
                <a:latin typeface="Times New Roman"/>
                <a:ea typeface="隶书"/>
              </a:rPr>
              <a:t>哪些是熟吃的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179280" y="1773360"/>
          <a:ext cx="8496360" cy="3527280"/>
        </p:xfrm>
        <a:graphic>
          <a:graphicData uri="http://schemas.openxmlformats.org/drawingml/2006/table">
            <a:tbl>
              <a:tblPr/>
              <a:tblGrid>
                <a:gridCol w="1825560"/>
                <a:gridCol w="3287880"/>
                <a:gridCol w="3382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生的马铃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     </a:t>
                      </a: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熟的马铃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软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cc"/>
                          </a:solidFill>
                          <a:latin typeface="仿宋_GB2312"/>
                          <a:ea typeface="仿宋_GB2312"/>
                        </a:rPr>
                        <a:t>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cc"/>
                    </a:solidFill>
                  </a:tcPr>
                </a:tc>
              </a:tr>
            </a:tbl>
          </a:graphicData>
        </a:graphic>
      </p:graphicFrame>
      <p:sp>
        <p:nvSpPr>
          <p:cNvPr id="409" name=""/>
          <p:cNvSpPr txBox="1"/>
          <p:nvPr/>
        </p:nvSpPr>
        <p:spPr>
          <a:xfrm>
            <a:off x="468360" y="47628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与生的马铃薯比较，熟的马铃薯有哪些变化？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观察比较生、熟马铃薯</a:t>
            </a:r>
            <a:br>
              <a:rPr sz="2800"/>
            </a:b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实验注意事项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58560" y="206064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充分利用你们的感官去观察，比如通过看、闻、尝、摸等方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使用小刀时一定要注意安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四人小组互相合作，边观察边记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宋体"/>
              </a:rPr>
              <a:t>、实验完成后整理好实验器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68360" y="184464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马铃薯中含有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龙葵素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它是一种对人体有害的生物碱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平时马铃薯中含量极微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一旦马铃薯发芽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芽眼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芽根和变绿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溃烂的地方龙葵素的含量急剧增高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可高出平时含量的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70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倍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人吃了这种发芽的马铃薯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轻者恶心呕吐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腹痛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腹泻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重者可出现脱水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血压下降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呼吸困难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昏迷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抽搐等现象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严重者还可因心肺麻痹而死亡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268360" y="620640"/>
            <a:ext cx="504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33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发芽的马铃薯为什么不宜吃？</a:t>
            </a:r>
            <a:endParaRPr b="0" lang="en-US" sz="2400" spc="1" strike="noStrike">
              <a:ln w="0">
                <a:noFill/>
              </a:ln>
              <a:solidFill>
                <a:srgbClr val="ff33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24000" y="333360"/>
            <a:ext cx="158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资料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3603600" y="936720"/>
            <a:ext cx="5540400" cy="5921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24000" y="0"/>
            <a:ext cx="338436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烧烤玉米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1332000" y="981000"/>
          <a:ext cx="6624720" cy="3384720"/>
        </p:xfrm>
        <a:graphic>
          <a:graphicData uri="http://schemas.openxmlformats.org/drawingml/2006/table">
            <a:tbl>
              <a:tblPr/>
              <a:tblGrid>
                <a:gridCol w="1422360"/>
                <a:gridCol w="5202360"/>
              </a:tblGrid>
              <a:tr h="109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方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记录玉米粒到玉米花的变化过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爆玉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                               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ff33cc"/>
                          </a:solidFill>
                          <a:latin typeface="Times New Roman"/>
                          <a:ea typeface="宋体"/>
                        </a:rPr>
                        <a:t>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1835280" y="2602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从玉米粒到玉米花记录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3:07:09Z</dcterms:created>
  <dc:creator>xlzx</dc:creator>
  <dc:description/>
  <dc:language>en-US</dc:language>
  <cp:lastModifiedBy>微软用户</cp:lastModifiedBy>
  <dcterms:modified xsi:type="dcterms:W3CDTF">2010-02-19T10:22:12Z</dcterms:modified>
  <cp:revision>46</cp:revision>
  <dc:subject/>
  <dc:title>《生的食物和熟的食物》</dc:title>
</cp:coreProperties>
</file>